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1F1-BCBF-47B5-B6CB-C0D2B01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919-97D1-416F-9455-B1CE695F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7EA-4E64-484C-B6A2-104C038D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FFB-F23D-4BE8-97AF-E2403609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192-2ED5-41D7-87D7-330BBA0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2E0-9B24-4B1E-8A88-7EA979B9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645-B4C6-4082-A756-E16860A4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AE6-A1B2-45C7-B0E1-1707040C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E46-6EF8-4211-9237-ACB2B4F8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7F9-4C71-48B5-B12B-C701DBC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9A7-CA15-46AB-A204-433B91DE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9AF-EB79-46DE-8DD7-BB5991E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28DF-F2E4-4010-A3A2-023F93586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uman Impact 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iosphere"/>
          <p:cNvPicPr/>
          <p:nvPr/>
        </p:nvPicPr>
        <p:blipFill>
          <a:blip r:embed="rId1"/>
          <a:stretch/>
        </p:blipFill>
        <p:spPr>
          <a:xfrm>
            <a:off x="3124080" y="236232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mful material that can enter the biosphere through land, water, or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35880" y="1981080"/>
            <a:ext cx="21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ollu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3920" y="3697200"/>
            <a:ext cx="86007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um total of the variety of organism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iosphere; It is a measure of the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a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438280" y="5410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o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rm used to refer to a species that is at risk of becoming endang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8880" y="2209680"/>
            <a:ext cx="25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eate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37160" y="3809880"/>
            <a:ext cx="9004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litting of ecosystems into small are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47920" y="48769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abitat fra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pecies whose population size is rapidly declining and will become extinct if the trend continues without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983240" y="213372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dang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0600" y="3581280"/>
            <a:ext cx="720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oncentration a harm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ce in organisms at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ophic levels in a food chain or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ological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s or animals that have migrated or been introduced into places where they are not native and for which there are no natural predators or parasites to control their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278520" y="2514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vasive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35800" y="3733920"/>
            <a:ext cx="85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ise management of natural re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preservation of habitats and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743200" y="5029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as containing endangered ecosystems that could benefit most from efforts and $ to preserv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822400" y="2209680"/>
            <a:ext cx="22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t sp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06640" y="3733920"/>
            <a:ext cx="84178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ospheric layer in which ozone (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g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relatively concentrated which prot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 from the su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ultra-viole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zone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n containing nitric and sulfuric acids caused by burning fossi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745360" y="198108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cid 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2400" y="3618000"/>
            <a:ext cx="7968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 in the average temperatur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438280" y="46483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obal wa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els such as oil, coal, or natural gas produced by the decay of dead organic matter that cause many environmental problems such as global warming and acid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745360" y="312408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ssil fu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7800" y="4343400"/>
            <a:ext cx="57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egal hunting of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o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bra mussels and leafy spurge in South Dakota and rabbits in Australia are examples of what environmental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25680" y="190512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vasive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33280" y="2819520"/>
            <a:ext cx="844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two modern agricultural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re helping to preserve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47242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atellite/GPS imaging, no-till, crop rotation, contour plowing, controlled grazing, cover crops, biological pes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 body whose job it is to monitor and enforce environmental regulations, provide education on environmental issues, conduct environmental research, and provide funding for environment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9040" y="259092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vironmental Protection Agenc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(EP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36880" y="4114800"/>
            <a:ext cx="902916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 signed by almost 200 countri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United States, which agreed to re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nd eventually stop) the use of ozone deple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66680" y="57913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ontreal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iant aquifer that supplies water for drinking and agricultural irrigation to much of the farming midw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981440" y="2209680"/>
            <a:ext cx="20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gall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37240" y="3505320"/>
            <a:ext cx="844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 passed to protect endangered specie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s importation into the United Stat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thing that comes from an endangered ani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5800" y="5029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vention on International Trade in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ndangered Species (CITES)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 used to refer to a species that has d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64320" y="99072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xtin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2438280"/>
            <a:ext cx="548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pesticide was pa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this food ch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organism would have the greatest concentration of pestic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5105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rd at the top tro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food-pyramid"/>
          <p:cNvPicPr/>
          <p:nvPr/>
        </p:nvPicPr>
        <p:blipFill>
          <a:blip r:embed="rId1"/>
          <a:stretch/>
        </p:blipFill>
        <p:spPr>
          <a:xfrm>
            <a:off x="5562720" y="2133720"/>
            <a:ext cx="3351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, aimed at reducing global warming, which has been ratified by 104 nations that asks participants to reduce by 2012 their greenhouse gas emissions to a percentage of their 1990 emission levels. (The President Bush has questioned some of the details of the treaty and the US has not ratified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16760" y="3276720"/>
            <a:ext cx="32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yoto Acc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26680" y="4518000"/>
            <a:ext cx="757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micals containing chlorofluorocarb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in aerosol cans and refrigerant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use a depletion of the ozon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743200" y="6019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FC</a:t>
            </a:r>
            <a:r>
              <a:rPr b="1" lang="ja-JP" sz="36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a in which the addition of an abundance of limiting nutrients like nitrogen and phosphorus cause an algal bloom, blocking sunlight, and causing the death of organisms b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821680" y="3429000"/>
            <a:ext cx="24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d 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88680" y="4343400"/>
            <a:ext cx="748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 where we could see this proble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62120" y="5562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ulf of Mexico where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  Mississippi River emp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tural process in which atmospheric gases trap energy from sunlight as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13280" y="1905120"/>
            <a:ext cx="40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enhouse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4080" y="3705120"/>
            <a:ext cx="83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ientific study of interactions am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ms and between organis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14600" y="5486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c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he organisms that live in a place together with their nonliving or physical environment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93440" y="160020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co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7760" y="3581280"/>
            <a:ext cx="875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mediate increase in the amount of alg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other producers that results from the ad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a large amount of limiting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14600" y="5486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lgal bl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an environmental problem caused by burning fossil fu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4800" y="1600200"/>
            <a:ext cx="400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cid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obal wa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ir pollution/smog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abitat de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90120" y="4038480"/>
            <a:ext cx="70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ll the cause of dead z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62120" y="51055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gricultural run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an invasive species that is causing problems in South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03440" y="1676520"/>
            <a:ext cx="329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Zebra muss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fy spu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11040" y="3276720"/>
            <a:ext cx="8486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author whos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lent Spring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described the dan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DDT and started the environ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42900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Rachel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lthy ecosystems hav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 level of biodivers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    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3920" y="114300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52280" y="28954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something humans do that endangers species and reduces biod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49528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ver hunting, poaching, habitat destruction, habitat fragmentation, industrial growth, ag runoff, burning fossil fuels (leads to global warming &amp; acid rain); CFC</a:t>
            </a: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, deforestation, air &amp; water pollution.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the late 195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-early 196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people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 Minamata Bay, Japan became ill with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ppling neurological disease, later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caused by mercury being dumped in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system there. The toxin passed along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chain and people became ill from eating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ght in the b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an example of which concept you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28600" y="487692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ological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ollutants concentrate in the highest trophic levels (in this case…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one of the greenhous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43000" y="914400"/>
            <a:ext cx="35812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eth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FC</a:t>
            </a:r>
            <a:r>
              <a:rPr b="1" lang="ja-JP" sz="36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ater vap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560" y="3276720"/>
            <a:ext cx="80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an effect of too much UV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62120" y="4019400"/>
            <a:ext cx="579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unburn/skin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remature 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ataracts/blind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Reduced crop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ood chain disru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environmental problem addressed by the Kyoto Ac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908000" y="1600200"/>
            <a:ext cx="451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bal warm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(helps acid rain to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54800" y="2895480"/>
            <a:ext cx="855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3 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ods and services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eco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de for hum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43434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lar energy, food production, oxygen production, nutrient storage &amp; recycling, climate regulation, habitats for wildlife, waste detoxification, natural pest/disease control, air/water purification, source of new medicines, soil erosion/runoff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ecessity of life (resource) which can NOT be replenished by natural mean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fossil f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08000" y="2209680"/>
            <a:ext cx="546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n-renewable re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76920" y="3962520"/>
            <a:ext cx="8353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ring away of the surface soil by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505320" y="5334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environmental probl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ed by the Montreal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755000" y="167652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zone depl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08160" y="2971800"/>
            <a:ext cx="662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one effect of acid rain 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44956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ills fish, reduces biodiversity, damages forests, human illness/death (asthma/bronchi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ll something we can do to help reduce global w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80880" y="1523880"/>
            <a:ext cx="82296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educe use of fossil fuels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anything that uses less electricity or less water would h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rive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ncrease fuel efficiency on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National energy policy that emphasizes  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and encourages use of alternativ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educe defores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re are more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deforestation impact global warm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22920" y="1523880"/>
            <a:ext cx="847908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ees remove C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from atmospher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uring photosynthes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ewer trees means less C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is remo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e global w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3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s and service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vided to humans by the bi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145880" y="1371600"/>
            <a:ext cx="648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xygen produc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trient storage/cyc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mate regula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ood produc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uman/industrial waste detoxifica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atural pest/diseas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urce of new medi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urce of raw materials for building stuff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ir/water purificati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rosion/runoff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. . . . there ar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EPA stand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36760" y="10666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vironmental Protection Ag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61520" y="2209680"/>
            <a:ext cx="8193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of the following are caused 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rning fossil f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id 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obal warm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ozone depl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876920" y="34290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ll EX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zone depl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re caused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urning fossil fu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2 harmful effects of Ultra-violet l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04920" y="152388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unburn, skin cancer, cataracts/blindnes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remature aging (wrinkles), decreased crop production, harm food chai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61160" y="3657600"/>
            <a:ext cx="59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atom makes oz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38080" y="464832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xygen;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rming strategy in which large fields are planted with a single crop variety year aft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983960" y="145404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no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0960" y="3429000"/>
            <a:ext cx="8509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cessity of life (resource) which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enerate quickly and that is replaceabl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: trees, w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905120" y="51814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Renewable re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oncentration a harmfu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ce in organisms at higher trophic levels in a food chain or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the pesticid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ed in fish-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rds like eagle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d them to lay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ragil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2057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iological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ood-pyramid"/>
          <p:cNvPicPr/>
          <p:nvPr/>
        </p:nvPicPr>
        <p:blipFill>
          <a:blip r:embed="rId1"/>
          <a:stretch/>
        </p:blipFill>
        <p:spPr>
          <a:xfrm>
            <a:off x="5715000" y="1828800"/>
            <a:ext cx="2903400" cy="3828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00920" y="59436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in which endangered species are allowed to breed in zoos until numbers increase and then are returned to their natural habit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526400" y="2819520"/>
            <a:ext cx="39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p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11280" y="3809880"/>
            <a:ext cx="75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ests that have never been cut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ide unique habitats for wild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Old growth forests  OR  </a:t>
            </a:r>
            <a:r>
              <a:rPr b="1" lang="ja-JP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virgin</a:t>
            </a:r>
            <a:r>
              <a:rPr b="1" lang="ja-JP" sz="32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fo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ppermost layer of soil that contains most of the nutrients and is susceptible to ero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439720" y="2362320"/>
            <a:ext cx="16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pso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09840" y="3581280"/>
            <a:ext cx="84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velength of sunlight that caus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nburn, skin cancer, and cataracts whic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zone layer protects us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14600" y="54864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Ultra violet (U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velopment of highly productive crop strains and the use of modern agriculture techniques to increase yields of food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602000" y="1981080"/>
            <a:ext cx="38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en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09480" y="4876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ustainabl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-1676520" y="3276720"/>
            <a:ext cx="17221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y of using natural resources without deple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m and of providing for human needs with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using long term harm to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cess caused by a combination of poor farming practices, overgrazing, and drought that turns productive land in areas with dry climates into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440440" y="2590920"/>
            <a:ext cx="32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ser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18600" y="3962520"/>
            <a:ext cx="76194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ixture of chemicals (smoke + fog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occurs as a gray-brown haz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m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8:38Z</dcterms:created>
  <dc:creator>Becca Riedell</dc:creator>
  <dc:description/>
  <dc:language>en-US</dc:language>
  <cp:lastModifiedBy>Dustin Zahm</cp:lastModifiedBy>
  <dcterms:modified xsi:type="dcterms:W3CDTF">2014-02-23T21:15:30Z</dcterms:modified>
  <cp:revision>19</cp:revision>
  <dc:subject/>
  <dc:title>NAME OF GAME</dc:title>
</cp:coreProperties>
</file>